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3.png" ContentType="image/png"/>
  <Override PartName="/ppt/media/image52.png" ContentType="image/png"/>
  <Override PartName="/ppt/media/image51.jpeg" ContentType="image/jpeg"/>
  <Override PartName="/ppt/media/image46.png" ContentType="image/png"/>
  <Override PartName="/ppt/media/image55.png" ContentType="image/png"/>
  <Override PartName="/ppt/media/image45.jpeg" ContentType="image/jpeg"/>
  <Override PartName="/ppt/media/image48.png" ContentType="image/png"/>
  <Override PartName="/ppt/media/image44.png" ContentType="image/png"/>
  <Override PartName="/ppt/media/image42.png" ContentType="image/png"/>
  <Override PartName="/ppt/media/image11.png" ContentType="image/png"/>
  <Override PartName="/ppt/media/image49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60.png" ContentType="image/png"/>
  <Override PartName="/ppt/media/image20.png" ContentType="image/png"/>
  <Override PartName="/ppt/media/image57.png" ContentType="image/png"/>
  <Override PartName="/ppt/media/image19.png" ContentType="image/png"/>
  <Override PartName="/ppt/media/image2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8.png" ContentType="image/png"/>
  <Override PartName="/ppt/media/image31.png" ContentType="image/png"/>
  <Override PartName="/ppt/media/image67.jpeg" ContentType="image/jpeg"/>
  <Override PartName="/ppt/media/image69.png" ContentType="image/png"/>
  <Override PartName="/ppt/media/image32.png" ContentType="image/png"/>
  <Override PartName="/ppt/media/image65.png" ContentType="image/png"/>
  <Override PartName="/ppt/media/image58.png" ContentType="image/png"/>
  <Override PartName="/ppt/media/image3.wmf" ContentType="image/x-wmf"/>
  <Override PartName="/ppt/media/image15.jpeg" ContentType="image/jpeg"/>
  <Override PartName="/ppt/media/image64.png" ContentType="image/png"/>
  <Override PartName="/ppt/media/image63.wmf" ContentType="image/x-wmf"/>
  <Override PartName="/ppt/media/image23.png" ContentType="image/png"/>
  <Override PartName="/ppt/media/image29.png" ContentType="image/png"/>
  <Override PartName="/ppt/media/image62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.jpeg" ContentType="image/jpeg"/>
  <Override PartName="/ppt/media/image8.wmf" ContentType="image/x-wmf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.png" ContentType="image/png"/>
  <Override PartName="/ppt/media/image13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43.jpeg" ContentType="image/jpeg"/>
  <Override PartName="/ppt/media/image28.png" ContentType="image/png"/>
  <Override PartName="/ppt/media/image9.jpeg" ContentType="image/jpeg"/>
  <Override PartName="/ppt/media/image36.png" ContentType="image/png"/>
  <Override PartName="/ppt/media/image37.png" ContentType="image/png"/>
  <Override PartName="/ppt/media/image38.png" ContentType="image/png"/>
  <Override PartName="/ppt/media/image39.png" ContentType="image/png"/>
  <Override PartName="/ppt/media/image66.png" ContentType="image/png"/>
  <Override PartName="/ppt/media/image41.jpeg" ContentType="image/jpeg"/>
  <Override PartName="/ppt/media/image5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1FD9-AED1-4218-9E3B-0404AC8A879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0A6D-0C40-4D97-93C6-24A76DCF4E51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2870-80E2-4B91-B43F-EFDE5029571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CA2F-0E71-4AFB-BE7C-8CEE1A8A57D1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F6A9-E705-4A4C-B686-79E3EA0D234C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F730-5221-4044-A527-B05FE8C3501E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3F7B-4E29-4EA9-A289-67E8B693418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2ABE-1768-4BEF-B0D1-A518BD517654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DEF7-FBB8-40E2-AB60-D2CC082B7071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A09D-AEAA-49C4-9E81-610AB0D0943E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40B2-7AB0-45C9-A190-80AF1C7AC6CF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1697-2E9C-402D-9621-F86D7448500E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B147-6830-43BA-B346-FCB406062940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67EB-6BA2-4D28-9561-47159D97B2A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0236-0122-49DC-B009-B105801632DE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EE34-63B9-422C-B314-A3FE8CE044F6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E065-0C51-403E-9D84-6E3DF9EF8CEC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F9AA-BF2D-46A0-A705-7CFD1FB6B303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9B73-3B44-4CDE-B83B-3668586315B3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CBA0-511C-44B8-A755-7581AA0FD1DF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837A-7F6B-4633-B4C7-E0487B47612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D181-23A4-486D-A30D-775E41210656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A1E6-DD54-4037-9B16-A1916A4F331E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CD3E-9C17-43FA-8ED2-C38090E41B83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41E6-3346-4B2A-8811-90C9A60BB097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0871-4040-48F0-A270-2CBF9007387E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BC1A-6163-4928-9E05-A1D7E9C8ABFE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2E38-1731-447D-848D-9440965A79FE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Wissensmanagemen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7EE1-DF2A-4F0F-BE6A-7E9EA5B4E70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9AD3-0AC6-46F0-A4E8-771616FAAFFA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38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42EA-00C5-4AC8-B741-550214F4658F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9E1A-F161-47D6-A8C6-C53646E7BC9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Wissensmanagemen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7D80-8242-4D60-85C6-71D9A8880DA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C5A1-1730-4E06-A3BC-8939D6459C3C}" type="slidenum">
              <a:rPr b="0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-1065240" y="2163600"/>
            <a:ext cx="8982000" cy="67374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1196640" y="1069920"/>
            <a:ext cx="4514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8430-EE6F-447E-99F1-5F8BEB839F90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CAFB-5C23-459A-A681-B4A639644EC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35A6-C24F-48AD-897C-DD4A246E2453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C197-50C8-491C-BD5F-47FEFFE62A66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3F04-DC9A-47D7-BE59-67DBA700423C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BC10-15FD-4A04-825B-8D6698CD3EAE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1D5A-0E1A-4ED3-B795-5744F4ADBDF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6C53-5D12-47BB-A1C3-E2DC10F5EAAC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ACCED-157E-481F-BA38-9C4B050AB8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2DD0-F1C9-43B4-BDA4-A37A42ED60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1641-12D7-4B50-92A7-9BCBEE9579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BEB31-5831-41DC-BABB-D8E8A8AF26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5927-99BA-4DA0-89B8-B3F3068E1B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1CCA-4257-4365-A88D-B5B5E8A90D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731C2-0CD7-443D-A6AB-95C22255A9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97380-179E-4324-88B0-8D715DB9D7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F7C8D-3F0F-4300-ADAC-65D3AF4BB3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AB94-480A-4BC3-9D54-2C608D54B5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466A-77D2-44FD-A712-5B079D09DF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2AFE-B154-4DE9-A452-21AAF7BF423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248920" indent="-224892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248920" indent="-224892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248920" indent="-224892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sldNum" idx="1"/>
          </p:nvPr>
        </p:nvSpPr>
        <p:spPr>
          <a:xfrm>
            <a:off x="12674160" y="93978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7A5C-5186-473A-AA5F-1CFA316C3EC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emantic-web-grundlagen.de/index.php/Kapitel_1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jpeg"/><Relationship Id="rId13" Type="http://schemas.openxmlformats.org/officeDocument/2006/relationships/image" Target="../media/image42.png"/><Relationship Id="rId14" Type="http://schemas.openxmlformats.org/officeDocument/2006/relationships/image" Target="../media/image43.jpeg"/><Relationship Id="rId15" Type="http://schemas.openxmlformats.org/officeDocument/2006/relationships/image" Target="../media/image44.png"/><Relationship Id="rId16" Type="http://schemas.openxmlformats.org/officeDocument/2006/relationships/image" Target="../media/image45.jpe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jpeg"/><Relationship Id="rId21" Type="http://schemas.openxmlformats.org/officeDocument/2006/relationships/image" Target="../media/image50.png"/><Relationship Id="rId22" Type="http://schemas.openxmlformats.org/officeDocument/2006/relationships/image" Target="../media/image50.png"/><Relationship Id="rId23" Type="http://schemas.openxmlformats.org/officeDocument/2006/relationships/image" Target="../media/image51.jpeg"/><Relationship Id="rId24" Type="http://schemas.openxmlformats.org/officeDocument/2006/relationships/image" Target="../media/image52.png"/><Relationship Id="rId25" Type="http://schemas.openxmlformats.org/officeDocument/2006/relationships/image" Target="../media/image53.png"/><Relationship Id="rId26" Type="http://schemas.openxmlformats.org/officeDocument/2006/relationships/image" Target="../media/image54.png"/><Relationship Id="rId27" Type="http://schemas.openxmlformats.org/officeDocument/2006/relationships/image" Target="../media/image55.png"/><Relationship Id="rId28" Type="http://schemas.openxmlformats.org/officeDocument/2006/relationships/image" Target="../media/image56.png"/><Relationship Id="rId29" Type="http://schemas.openxmlformats.org/officeDocument/2006/relationships/image" Target="../media/image57.png"/><Relationship Id="rId30" Type="http://schemas.openxmlformats.org/officeDocument/2006/relationships/image" Target="../media/image58.png"/><Relationship Id="rId31" Type="http://schemas.openxmlformats.org/officeDocument/2006/relationships/image" Target="../media/image59.png"/><Relationship Id="rId32" Type="http://schemas.openxmlformats.org/officeDocument/2006/relationships/image" Target="../media/image60.png"/><Relationship Id="rId33" Type="http://schemas.openxmlformats.org/officeDocument/2006/relationships/image" Target="../media/image61.png"/><Relationship Id="rId34" Type="http://schemas.openxmlformats.org/officeDocument/2006/relationships/image" Target="../media/image62.png"/><Relationship Id="rId35" Type="http://schemas.openxmlformats.org/officeDocument/2006/relationships/image" Target="../media/image63.wmf"/><Relationship Id="rId36" Type="http://schemas.openxmlformats.org/officeDocument/2006/relationships/image" Target="../media/image64.png"/><Relationship Id="rId37" Type="http://schemas.openxmlformats.org/officeDocument/2006/relationships/image" Target="../media/image65.png"/><Relationship Id="rId38" Type="http://schemas.openxmlformats.org/officeDocument/2006/relationships/image" Target="../media/image66.png"/><Relationship Id="rId39" Type="http://schemas.openxmlformats.org/officeDocument/2006/relationships/image" Target="../media/image67.jpeg"/><Relationship Id="rId40" Type="http://schemas.openxmlformats.org/officeDocument/2006/relationships/image" Target="../media/image68.png"/><Relationship Id="rId41" Type="http://schemas.openxmlformats.org/officeDocument/2006/relationships/image" Target="../media/image69.png"/><Relationship Id="rId42" Type="http://schemas.openxmlformats.org/officeDocument/2006/relationships/slideLayout" Target="../slideLayouts/slideLayout13.xml"/><Relationship Id="rId4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ascal-hitzler.de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5A82-938B-4EE5-8541-C52F47F4768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Prüf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Vorraussichtlich mündlich (20min).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Termin vermutlich Ende Februar (wird noch festgelegt)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Anmeldezeitraum </a:t>
            </a:r>
            <a:br>
              <a:rPr sz="4200"/>
            </a:b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02.01.2009 – 02.02.2009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868B-B3FF-4EB4-9105-2A1A0D5255F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Inhal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957240" y="2428920"/>
          <a:ext cx="11163240" cy="6665760"/>
        </p:xfrm>
        <a:graphic>
          <a:graphicData uri="http://schemas.openxmlformats.org/drawingml/2006/table">
            <a:tbl>
              <a:tblPr/>
              <a:tblGrid>
                <a:gridCol w="2546280"/>
                <a:gridCol w="6026400"/>
                <a:gridCol w="2590560"/>
              </a:tblGrid>
              <a:tr h="4428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 Okto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 Okto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cal Hitzl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Dez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 Dezembe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 Dez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/Einführung Regelsprach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Febr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–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 Febr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cal Hitzl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9074-5ED0-484B-81DC-44C5B86C33A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Inhal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Übungstermine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03.11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17.11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01.12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15.12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12.01.2009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26.01.2009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09.02.2009 (mit Konsultation/Fragestunde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DCE3-718C-4B02-8F7F-E4BF137ECA5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ter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tzler, Krötzsch, Rudolph, Sure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tic Web. Grundlagen."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pringer-Verlag, 2008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ckt die meisten Inhalte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r Vorlesung ab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1"/>
          <a:srcRect l="17454" t="197" r="17454" b="801"/>
          <a:stretch/>
        </p:blipFill>
        <p:spPr>
          <a:xfrm>
            <a:off x="9509040" y="4483080"/>
            <a:ext cx="2730600" cy="4152960"/>
          </a:xfrm>
          <a:prstGeom prst="rect">
            <a:avLst/>
          </a:prstGeom>
          <a:ln w="0">
            <a:noFill/>
          </a:ln>
          <a:effectLst>
            <a:outerShdw dist="114419" dir="7562437" blurRad="0" rotWithShape="0">
              <a:srgbClr val="000000">
                <a:alpha val="95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ED3E-01D9-4C5E-BF29-E53BFEE2F6A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3360" y="9423360"/>
            <a:ext cx="128653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entspricht Kapitel 1 des Buches „Semantic Web - Grundlagen“ - siehe auch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semantic-web-grundlagen.de/index.php/Kapitel_1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8D3A-5A52-43E5-8317-8B99DADABC8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69720" y="2019240"/>
            <a:ext cx="10464840" cy="530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Das Web flankiert den Übergang von der Industrie- zur Informationsgesellschaft und bietet die Infrastruktur für eine neue Qualität des Umgangs mit Inform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                     hinsichtlich Beschaffu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                     wie auch Bereitstellung. 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-1473120" y="4910040"/>
            <a:ext cx="6337080" cy="499104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5423040" y="5524560"/>
            <a:ext cx="684504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ohe Verfügbarkei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ohe Aktualitä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ringe Kost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04C3-71A0-45BD-A9A5-4BFA352E147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2018880"/>
            <a:ext cx="11747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merzialisierung in allen Größenordn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rcRect l="0" t="9114" r="2248" b="5728"/>
          <a:stretch/>
        </p:blipFill>
        <p:spPr>
          <a:xfrm>
            <a:off x="431640" y="4800600"/>
            <a:ext cx="6350040" cy="415296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15" name="Picture 4" descr=""/>
          <p:cNvPicPr/>
          <p:nvPr/>
        </p:nvPicPr>
        <p:blipFill>
          <a:blip r:embed="rId2"/>
          <a:srcRect l="844" t="13271" r="2291" b="15084"/>
          <a:stretch/>
        </p:blipFill>
        <p:spPr>
          <a:xfrm>
            <a:off x="5062680" y="3581280"/>
            <a:ext cx="6806880" cy="403092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0652-07B3-4E75-8F30-9CA118C6B1C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45960" y="2355480"/>
            <a:ext cx="10769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eitere Lebensbereiche werden "webisiert"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hörden, Verwaltung (eGovernment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sbildung (eLearning, eEducatio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ozialkontakte (Social-Networking-Plattformen, Partnerbör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ltag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19" name="Picture 3" descr=""/>
          <p:cNvPicPr/>
          <p:nvPr/>
        </p:nvPicPr>
        <p:blipFill>
          <a:blip r:embed="rId1"/>
          <a:srcRect l="18565" t="8593" r="35911" b="57682"/>
          <a:stretch/>
        </p:blipFill>
        <p:spPr>
          <a:xfrm>
            <a:off x="4356000" y="7086600"/>
            <a:ext cx="5754960" cy="266688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sp>
        <p:nvSpPr>
          <p:cNvPr id="420" name="Text Box 4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6955-E4A1-492F-8BCA-43D78AE5809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0FC8-AC8C-4B1E-ABC0-ADDDE273D14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2" name="Picture 1" descr=""/>
          <p:cNvPicPr/>
          <p:nvPr/>
        </p:nvPicPr>
        <p:blipFill>
          <a:blip r:embed="rId1"/>
          <a:srcRect l="0" t="10279" r="1785" b="6484"/>
          <a:stretch/>
        </p:blipFill>
        <p:spPr>
          <a:xfrm>
            <a:off x="8447040" y="0"/>
            <a:ext cx="5600880" cy="350820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23" name="Picture 2" descr=""/>
          <p:cNvPicPr/>
          <p:nvPr/>
        </p:nvPicPr>
        <p:blipFill>
          <a:blip r:embed="rId2"/>
          <a:srcRect l="899" t="662" r="0" b="2647"/>
          <a:stretch/>
        </p:blipFill>
        <p:spPr>
          <a:xfrm>
            <a:off x="8518680" y="844560"/>
            <a:ext cx="785520" cy="10414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33600" y="196920"/>
            <a:ext cx="102614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627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ülle an Information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sgerichtet auf Menschen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s Endnutz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fassen der Bedeutu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Websei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nabhängig von konkret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präsenta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ilden von Zusammenhäng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26" name="Picture 5" descr=""/>
          <p:cNvPicPr/>
          <p:nvPr/>
        </p:nvPicPr>
        <p:blipFill>
          <a:blip r:embed="rId3"/>
          <a:srcRect l="0" t="10369" r="1795" b="8183"/>
          <a:stretch/>
        </p:blipFill>
        <p:spPr>
          <a:xfrm>
            <a:off x="9321840" y="3086280"/>
            <a:ext cx="5702400" cy="444960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27" name="Picture 6" descr=""/>
          <p:cNvPicPr/>
          <p:nvPr/>
        </p:nvPicPr>
        <p:blipFill>
          <a:blip r:embed="rId4"/>
          <a:srcRect l="548" t="12121" r="2763" b="7436"/>
          <a:stretch/>
        </p:blipFill>
        <p:spPr>
          <a:xfrm>
            <a:off x="9728280" y="6858000"/>
            <a:ext cx="4508280" cy="370836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sp>
        <p:nvSpPr>
          <p:cNvPr id="428" name="Text Box 7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ECB7-D5A5-481F-831F-E4DF3530BCC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9483-2878-41CA-84BE-098561E95F1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Lokalisierung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von Information problematisch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eutige Suchmaschinen gut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 stichwortbasier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ünschenswert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inhaltliche,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semantische Such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rcRect l="1426" t="15071" r="37718" b="35346"/>
          <a:stretch/>
        </p:blipFill>
        <p:spPr>
          <a:xfrm>
            <a:off x="8437680" y="5450040"/>
            <a:ext cx="4565520" cy="430524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sp>
        <p:nvSpPr>
          <p:cNvPr id="433" name="Text Box 4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55EA-B775-448C-A226-E5E99B9FDAB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5864-0A17-4B98-A32E-37F726248A7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CF68-FDB1-471D-8344-EE80A5A46F1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600" y="201888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Heterogenität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der vorhandenen Information auf verschiedensten Ebenen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ichenkodierung (z.B. ASCII vs. Unicode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erwendete natürliche Sprach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nordnung von Information auf Webseit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Informationsintegration</a:t>
            </a:r>
            <a:br>
              <a:rPr sz="3400"/>
            </a:b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rcRect l="11629" t="30136" r="8486" b="10715"/>
          <a:stretch/>
        </p:blipFill>
        <p:spPr>
          <a:xfrm>
            <a:off x="1092240" y="8039160"/>
            <a:ext cx="7251840" cy="279720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38" name="Picture 4" descr=""/>
          <p:cNvPicPr/>
          <p:nvPr/>
        </p:nvPicPr>
        <p:blipFill>
          <a:blip r:embed="rId2"/>
          <a:srcRect l="206" t="23809" r="6903" b="13833"/>
          <a:stretch/>
        </p:blipFill>
        <p:spPr>
          <a:xfrm>
            <a:off x="8369280" y="6870600"/>
            <a:ext cx="5638680" cy="349272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sp>
        <p:nvSpPr>
          <p:cNvPr id="439" name="Text Box 5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5075-FFFE-4A4C-8780-5D3965CF4D4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2705-4EF1-4B5A-8A6B-234C907DC71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60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implizites Wiss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, d.h. Informationen, sind nicht explizit spezifiziert, folgen aber aus der Kombination gegebener Da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rmallogische Methode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forderlich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automatisches Schlussfolgern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43" name="Picture 3" descr=""/>
          <p:cNvPicPr/>
          <p:nvPr/>
        </p:nvPicPr>
        <p:blipFill>
          <a:blip r:embed="rId1"/>
          <a:stretch/>
        </p:blipFill>
        <p:spPr>
          <a:xfrm>
            <a:off x="9883800" y="5710320"/>
            <a:ext cx="3060720" cy="396216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777777">
                <a:alpha val="95000"/>
              </a:srgbClr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2841-72CB-403F-B56F-BE13D618CB8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460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7372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sansätz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37280" indent="-502560"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d hoc: Verwendung von KI-Methoden zur Auswertung bestehender unstrukturierter Informationen im Web 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37280" indent="-502560"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 priori: Strukturierung der Web-Informationen zur Erleichterung der automatisierten Auswertung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➜ </a:t>
            </a: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Semantic Web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CDD0-5CE5-4924-BC55-4D71B4160DD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arum Semantic Web?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70080" y="2552400"/>
            <a:ext cx="11074320" cy="708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8294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160e"/>
                </a:solidFill>
                <a:latin typeface="Helvetica Neue"/>
              </a:rPr>
              <a:t>Exkurs: Syntax vs. Semantik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9440" indent="-565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Helvetica Neue"/>
              </a:rPr>
              <a:t>Syntax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(von grch.συνταξι      ς  – </a:t>
            </a:r>
            <a:r>
              <a:rPr b="0" i="1" lang="en-US" sz="2700" spc="-1" strike="noStrike">
                <a:solidFill>
                  <a:srgbClr val="000000"/>
                </a:solidFill>
                <a:latin typeface="Helvetica Neue"/>
              </a:rPr>
              <a:t>Zusammenstellung, Satzbau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) steht für die (normative) Struktur von Daten, d.h. sie charakterisiert, was "wohlgeformte" Daten sind. </a:t>
            </a:r>
            <a:endParaRPr b="0" lang="en-US" sz="2700" spc="-1" strike="noStrike">
              <a:solidFill>
                <a:srgbClr val="000000"/>
              </a:solidFill>
              <a:latin typeface="Helvetica Neue"/>
            </a:endParaRPr>
          </a:p>
          <a:p>
            <a:pPr marL="829440" indent="-565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Helvetica Neue"/>
              </a:rPr>
              <a:t>Semantik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(grch. σημαντικο     ς  – </a:t>
            </a:r>
            <a:r>
              <a:rPr b="0" i="1" lang="en-US" sz="2700" spc="-1" strike="noStrike">
                <a:solidFill>
                  <a:srgbClr val="000000"/>
                </a:solidFill>
                <a:latin typeface="Helvetica Neue"/>
              </a:rPr>
              <a:t>zum Zeichen gehörend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) steht für die Bedeutung von Daten, d.h. sie charakterisiert beispielsweise, welche inhaltliche Schlussfolgerungen sich ziehen lassen.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i="1" lang="en-US" sz="2700" spc="-1" strike="noStrike">
                <a:solidFill>
                  <a:srgbClr val="000000"/>
                </a:solidFill>
                <a:latin typeface="Helvetica Neue"/>
              </a:rPr>
              <a:t>        </a:t>
            </a:r>
            <a:r>
              <a:rPr b="0" i="1" lang="en-US" sz="3100" spc="-1" strike="noStrike">
                <a:solidFill>
                  <a:srgbClr val="000000"/>
                </a:solidFill>
                <a:latin typeface="Helvetica Neue"/>
              </a:rPr>
              <a:t>4+)=(                        3+4=12                    3+4=7</a:t>
            </a:r>
            <a:br>
              <a:rPr sz="31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syntaktisch falsch         syntaktisch richtig        syntaktisch richtig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            --                       semantisch falsch        semantisch richtig </a:t>
            </a:r>
            <a:endParaRPr b="0" lang="en-US" sz="2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7451-1A76-42D4-BF55-F1288E400D5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Web – Zuta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461600" y="2715840"/>
            <a:ext cx="10464840" cy="648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wei essentielle Voraussetzungen zur Realisierung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ffene Standards zur Beschreibung von Informationen / von Wi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r definie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lexib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rweiterbar 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thoden zur Gewinnung von weiteren Informationen aus derlei Beschreibung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AA3E-7FE6-4E3F-89AA-B0D3E366542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37920" y="240840"/>
            <a:ext cx="1108548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Grundidee des Semantic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55" name="Picture 3" descr=""/>
          <p:cNvPicPr/>
          <p:nvPr/>
        </p:nvPicPr>
        <p:blipFill>
          <a:blip r:embed="rId1"/>
          <a:stretch/>
        </p:blipFill>
        <p:spPr>
          <a:xfrm>
            <a:off x="4351320" y="2744640"/>
            <a:ext cx="4097520" cy="395928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4"/>
          <p:cNvSpPr/>
          <p:nvPr/>
        </p:nvSpPr>
        <p:spPr>
          <a:xfrm>
            <a:off x="5258880" y="6823080"/>
            <a:ext cx="223128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ntologie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repräsentier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chemawiss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AutoShape 5"/>
          <p:cNvSpPr/>
          <p:nvPr/>
        </p:nvSpPr>
        <p:spPr>
          <a:xfrm>
            <a:off x="154080" y="5389560"/>
            <a:ext cx="3889440" cy="34815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DL Rul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Krötzsch, Rudolph, Hitzl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CAI 2008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AutoShape 6"/>
          <p:cNvSpPr/>
          <p:nvPr/>
        </p:nvSpPr>
        <p:spPr>
          <a:xfrm>
            <a:off x="2714760" y="4159080"/>
            <a:ext cx="103032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AutoShape 7"/>
          <p:cNvSpPr/>
          <p:nvPr/>
        </p:nvSpPr>
        <p:spPr>
          <a:xfrm>
            <a:off x="9470880" y="5183280"/>
            <a:ext cx="103212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AutoShape 8"/>
          <p:cNvSpPr/>
          <p:nvPr/>
        </p:nvSpPr>
        <p:spPr>
          <a:xfrm>
            <a:off x="11111040" y="4262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8961480" y="3033720"/>
            <a:ext cx="103176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AutoShape 10"/>
          <p:cNvSpPr/>
          <p:nvPr/>
        </p:nvSpPr>
        <p:spPr>
          <a:xfrm>
            <a:off x="4351320" y="180324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AutoShape 11"/>
          <p:cNvSpPr/>
          <p:nvPr/>
        </p:nvSpPr>
        <p:spPr>
          <a:xfrm>
            <a:off x="1587600" y="2930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10385280" y="6004080"/>
            <a:ext cx="21945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Daten z.B. auf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Webseit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Text Box 13"/>
          <p:cNvSpPr/>
          <p:nvPr/>
        </p:nvSpPr>
        <p:spPr>
          <a:xfrm>
            <a:off x="5240160" y="7950240"/>
            <a:ext cx="5663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jede Veröffentlichung hat einen 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68C1-EBAA-47A1-B652-7699C6872D5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101240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Grundidee des Semantic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8" name="Picture 3" descr=""/>
          <p:cNvPicPr/>
          <p:nvPr/>
        </p:nvPicPr>
        <p:blipFill>
          <a:blip r:embed="rId1"/>
          <a:stretch/>
        </p:blipFill>
        <p:spPr>
          <a:xfrm>
            <a:off x="5581800" y="2214720"/>
            <a:ext cx="5940360" cy="5736960"/>
          </a:xfrm>
          <a:prstGeom prst="rect">
            <a:avLst/>
          </a:prstGeom>
          <a:ln w="0">
            <a:noFill/>
          </a:ln>
        </p:spPr>
      </p:pic>
      <p:sp>
        <p:nvSpPr>
          <p:cNvPr id="469" name="AutoShape 4"/>
          <p:cNvSpPr/>
          <p:nvPr/>
        </p:nvSpPr>
        <p:spPr>
          <a:xfrm>
            <a:off x="768240" y="4363920"/>
            <a:ext cx="3891240" cy="34815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DL Rul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Krötzsch, Rudolph, Hitzl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CAI 2008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6060240" y="8562960"/>
            <a:ext cx="5663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jede Veröffentlichung hat einen 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8435880" y="3851280"/>
            <a:ext cx="2583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Veröffentlichung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7315920" y="7129440"/>
            <a:ext cx="131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Tagung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6399000" y="3236760"/>
            <a:ext cx="861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Tit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Text Box 9"/>
          <p:cNvSpPr/>
          <p:nvPr/>
        </p:nvSpPr>
        <p:spPr>
          <a:xfrm>
            <a:off x="6293160" y="5491080"/>
            <a:ext cx="1040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Line 10"/>
          <p:cNvSpPr/>
          <p:nvPr/>
        </p:nvSpPr>
        <p:spPr>
          <a:xfrm flipV="1">
            <a:off x="4761000" y="3749400"/>
            <a:ext cx="3584520" cy="1127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Line 11"/>
          <p:cNvSpPr/>
          <p:nvPr/>
        </p:nvSpPr>
        <p:spPr>
          <a:xfrm flipV="1">
            <a:off x="1380960" y="3544560"/>
            <a:ext cx="5940720" cy="2151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Line 12"/>
          <p:cNvSpPr/>
          <p:nvPr/>
        </p:nvSpPr>
        <p:spPr>
          <a:xfrm flipV="1">
            <a:off x="1995480" y="5081760"/>
            <a:ext cx="4608360" cy="1126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Line 13"/>
          <p:cNvSpPr/>
          <p:nvPr/>
        </p:nvSpPr>
        <p:spPr>
          <a:xfrm>
            <a:off x="2406600" y="6618240"/>
            <a:ext cx="5324400" cy="204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Line 14"/>
          <p:cNvSpPr/>
          <p:nvPr/>
        </p:nvSpPr>
        <p:spPr>
          <a:xfrm flipV="1">
            <a:off x="2816280" y="5183280"/>
            <a:ext cx="3890880" cy="102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Line 15"/>
          <p:cNvSpPr/>
          <p:nvPr/>
        </p:nvSpPr>
        <p:spPr>
          <a:xfrm flipV="1">
            <a:off x="3840120" y="5284800"/>
            <a:ext cx="2968560" cy="923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0E7C-2CE0-42B6-91FE-174C4C35E66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101240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Grundidee des Semantic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83" name="Picture 3" descr=""/>
          <p:cNvPicPr/>
          <p:nvPr/>
        </p:nvPicPr>
        <p:blipFill>
          <a:blip r:embed="rId1"/>
          <a:stretch/>
        </p:blipFill>
        <p:spPr>
          <a:xfrm>
            <a:off x="4351320" y="2744640"/>
            <a:ext cx="4097520" cy="395928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4"/>
          <p:cNvSpPr/>
          <p:nvPr/>
        </p:nvSpPr>
        <p:spPr>
          <a:xfrm>
            <a:off x="5258880" y="6823080"/>
            <a:ext cx="223128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ntologie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repräsentier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chemawiss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5"/>
          <p:cNvSpPr/>
          <p:nvPr/>
        </p:nvSpPr>
        <p:spPr>
          <a:xfrm>
            <a:off x="154080" y="5389560"/>
            <a:ext cx="3889440" cy="34815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DL Rul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Krötzsch, Rudolph, Hitzl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CAI 2008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AutoShape 6"/>
          <p:cNvSpPr/>
          <p:nvPr/>
        </p:nvSpPr>
        <p:spPr>
          <a:xfrm>
            <a:off x="2714760" y="4159080"/>
            <a:ext cx="103032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7"/>
          <p:cNvSpPr/>
          <p:nvPr/>
        </p:nvSpPr>
        <p:spPr>
          <a:xfrm>
            <a:off x="9470880" y="5183280"/>
            <a:ext cx="103212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AutoShape 8"/>
          <p:cNvSpPr/>
          <p:nvPr/>
        </p:nvSpPr>
        <p:spPr>
          <a:xfrm>
            <a:off x="11111040" y="4262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9"/>
          <p:cNvSpPr/>
          <p:nvPr/>
        </p:nvSpPr>
        <p:spPr>
          <a:xfrm>
            <a:off x="8961480" y="3033720"/>
            <a:ext cx="103176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AutoShape 10"/>
          <p:cNvSpPr/>
          <p:nvPr/>
        </p:nvSpPr>
        <p:spPr>
          <a:xfrm>
            <a:off x="4351320" y="180324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11"/>
          <p:cNvSpPr/>
          <p:nvPr/>
        </p:nvSpPr>
        <p:spPr>
          <a:xfrm>
            <a:off x="1587600" y="2930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10385280" y="6004080"/>
            <a:ext cx="21945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Daten z.B. auf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Webseit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Text Box 13"/>
          <p:cNvSpPr/>
          <p:nvPr/>
        </p:nvSpPr>
        <p:spPr>
          <a:xfrm>
            <a:off x="5240160" y="7950240"/>
            <a:ext cx="5663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jede Veröffentlichung hat einen 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Line 14"/>
          <p:cNvSpPr/>
          <p:nvPr/>
        </p:nvSpPr>
        <p:spPr>
          <a:xfrm>
            <a:off x="2816280" y="3443400"/>
            <a:ext cx="1535040" cy="407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Line 15"/>
          <p:cNvSpPr/>
          <p:nvPr/>
        </p:nvSpPr>
        <p:spPr>
          <a:xfrm>
            <a:off x="5581800" y="2417760"/>
            <a:ext cx="203040" cy="307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Line 16"/>
          <p:cNvSpPr/>
          <p:nvPr/>
        </p:nvSpPr>
        <p:spPr>
          <a:xfrm>
            <a:off x="3840120" y="4570560"/>
            <a:ext cx="409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Line 17"/>
          <p:cNvSpPr/>
          <p:nvPr/>
        </p:nvSpPr>
        <p:spPr>
          <a:xfrm flipV="1">
            <a:off x="4148280" y="6003720"/>
            <a:ext cx="511200" cy="407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Line 18"/>
          <p:cNvSpPr/>
          <p:nvPr/>
        </p:nvSpPr>
        <p:spPr>
          <a:xfrm flipH="1" flipV="1">
            <a:off x="8550360" y="5284440"/>
            <a:ext cx="614160" cy="206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Line 19"/>
          <p:cNvSpPr/>
          <p:nvPr/>
        </p:nvSpPr>
        <p:spPr>
          <a:xfrm flipH="1">
            <a:off x="8141760" y="3240000"/>
            <a:ext cx="613080" cy="203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Line 20"/>
          <p:cNvSpPr/>
          <p:nvPr/>
        </p:nvSpPr>
        <p:spPr>
          <a:xfrm flipH="1" flipV="1">
            <a:off x="8652960" y="4468320"/>
            <a:ext cx="2251080" cy="101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Text Box 21"/>
          <p:cNvSpPr/>
          <p:nvPr/>
        </p:nvSpPr>
        <p:spPr>
          <a:xfrm>
            <a:off x="-450720" y="8562960"/>
            <a:ext cx="1363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Gill Sans"/>
              </a:rPr>
              <a:t>Deduktionsalgorithmen erlauben Gewinnu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Gill Sans"/>
              </a:rPr>
              <a:t>neuen (impliziten) Wissens aus den integrierten Information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liennummernplatzhalter 4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8C5F-B9BE-4B0F-B8FE-D420D0C4798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115712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Bodoni SvtyTwo SC ITC TT-Book"/>
              </a:rPr>
              <a:t>Ontologien als zentrale Technologie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74880" y="2384280"/>
            <a:ext cx="11569680" cy="628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Stellen einen Bezugsrahmen für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Helvetica Neue"/>
              </a:rPr>
              <a:t>die Disambiguierung und</a:t>
            </a:r>
            <a:endParaRPr b="0" lang="en-US" sz="25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Helvetica Neue"/>
              </a:rPr>
              <a:t>die globale Vernetzung</a:t>
            </a:r>
            <a:endParaRPr b="0" lang="en-US" sz="25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von Bedeutung zur Verfügung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Vermitteln Hintergrundwissen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Erlauben den Umgang mit implizitem Wissen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Haben eine explizite formale Semantik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Können als gemeinsame Ressource genutzt werden, z.B. über das WWW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Erlauben die Integration verteilten Wissen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8653320" y="1803240"/>
            <a:ext cx="3376800" cy="32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419B-A629-4EFE-97B4-C3FC735AF15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026144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600" spc="-1" strike="noStrike">
                <a:solidFill>
                  <a:srgbClr val="000000"/>
                </a:solidFill>
                <a:latin typeface="Bodoni SvtyTwo SC ITC TT-Book"/>
              </a:rPr>
              <a:t>Ontologiesprachen / Standards</a:t>
            </a:r>
            <a:endParaRPr b="0" lang="en-US" sz="56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71160" y="2284200"/>
            <a:ext cx="10464840" cy="6840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Zentral für die Realisierung Semantischer Technologien ist die Entwicklung geeigneter </a:t>
            </a:r>
            <a:r>
              <a:rPr b="1" lang="de-DE" sz="4200" spc="-1" strike="noStrike">
                <a:solidFill>
                  <a:srgbClr val="000000"/>
                </a:solidFill>
                <a:latin typeface="Helvetica Neue"/>
              </a:rPr>
              <a:t>Repräsentationssprachen</a:t>
            </a: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 für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Bedeutung (Semantik) mittels Logik und  Deduktionsalgorithm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Was eignet sich als  Repräsentationssprache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C5C2-DC02-429F-93F5-19BD27ABE4F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755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EB49-B4AD-494E-A25C-6887FB709E6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Web - Standard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7039080" y="3195720"/>
            <a:ext cx="4622760" cy="3888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7037280" y="3211560"/>
            <a:ext cx="4626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tandardization Semantic Web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7037280" y="3584520"/>
            <a:ext cx="1333440" cy="622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7037280" y="359568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1994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7037280" y="4206960"/>
            <a:ext cx="1333440" cy="8269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7037280" y="432108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8359920" y="3584520"/>
            <a:ext cx="3300120" cy="622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8359920" y="3600360"/>
            <a:ext cx="3292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First public presentation of the Semantic Web idea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Rectangle 10"/>
          <p:cNvSpPr/>
          <p:nvPr/>
        </p:nvSpPr>
        <p:spPr>
          <a:xfrm>
            <a:off x="8359920" y="4206960"/>
            <a:ext cx="3300120" cy="826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Rectangle 11"/>
          <p:cNvSpPr/>
          <p:nvPr/>
        </p:nvSpPr>
        <p:spPr>
          <a:xfrm>
            <a:off x="8359920" y="4222800"/>
            <a:ext cx="32922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rt of standardization of data model (RDF) and a first ontology languages (RDFS) at W3C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Rectangle 12"/>
          <p:cNvSpPr/>
          <p:nvPr/>
        </p:nvSpPr>
        <p:spPr>
          <a:xfrm>
            <a:off x="7037280" y="5033880"/>
            <a:ext cx="1333440" cy="828720"/>
          </a:xfrm>
          <a:prstGeom prst="rect">
            <a:avLst/>
          </a:prstGeom>
          <a:solidFill>
            <a:srgbClr val="ff7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Rectangle 13"/>
          <p:cNvSpPr/>
          <p:nvPr/>
        </p:nvSpPr>
        <p:spPr>
          <a:xfrm>
            <a:off x="7037280" y="514836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Rectangle 14"/>
          <p:cNvSpPr/>
          <p:nvPr/>
        </p:nvSpPr>
        <p:spPr>
          <a:xfrm>
            <a:off x="8359920" y="5033880"/>
            <a:ext cx="33001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Rectangle 15"/>
          <p:cNvSpPr/>
          <p:nvPr/>
        </p:nvSpPr>
        <p:spPr>
          <a:xfrm>
            <a:off x="8359920" y="5051520"/>
            <a:ext cx="3292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rt of large research projects about ontologies in the US and Europe (DAML &amp; Ontoknowledge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Rectangle 16"/>
          <p:cNvSpPr/>
          <p:nvPr/>
        </p:nvSpPr>
        <p:spPr>
          <a:xfrm>
            <a:off x="7037280" y="5862600"/>
            <a:ext cx="1333440" cy="827280"/>
          </a:xfrm>
          <a:prstGeom prst="rect">
            <a:avLst/>
          </a:prstGeom>
          <a:solidFill>
            <a:srgbClr val="ff7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Rectangle 17"/>
          <p:cNvSpPr/>
          <p:nvPr/>
        </p:nvSpPr>
        <p:spPr>
          <a:xfrm>
            <a:off x="7037280" y="5975280"/>
            <a:ext cx="13334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Rectangle 18"/>
          <p:cNvSpPr/>
          <p:nvPr/>
        </p:nvSpPr>
        <p:spPr>
          <a:xfrm>
            <a:off x="8359920" y="5862600"/>
            <a:ext cx="3300120" cy="827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Rectangle 19"/>
          <p:cNvSpPr/>
          <p:nvPr/>
        </p:nvSpPr>
        <p:spPr>
          <a:xfrm>
            <a:off x="8359920" y="5878440"/>
            <a:ext cx="32922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rt of standardization of a new ontology language (OWL) based on research resul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20"/>
          <p:cNvSpPr/>
          <p:nvPr/>
        </p:nvSpPr>
        <p:spPr>
          <a:xfrm>
            <a:off x="7037280" y="6689880"/>
            <a:ext cx="1333440" cy="830160"/>
          </a:xfrm>
          <a:prstGeom prst="rect">
            <a:avLst/>
          </a:prstGeom>
          <a:solidFill>
            <a:srgbClr val="ff7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Rectangle 21"/>
          <p:cNvSpPr/>
          <p:nvPr/>
        </p:nvSpPr>
        <p:spPr>
          <a:xfrm>
            <a:off x="7037280" y="680400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Rectangle 22"/>
          <p:cNvSpPr/>
          <p:nvPr/>
        </p:nvSpPr>
        <p:spPr>
          <a:xfrm>
            <a:off x="8359920" y="6689880"/>
            <a:ext cx="3300120" cy="830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Rectangle 23"/>
          <p:cNvSpPr/>
          <p:nvPr/>
        </p:nvSpPr>
        <p:spPr>
          <a:xfrm>
            <a:off x="8359920" y="6705720"/>
            <a:ext cx="3292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Finalization of the  standard for data (RDF) and ontology (OWL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Rectangle 24"/>
          <p:cNvSpPr/>
          <p:nvPr/>
        </p:nvSpPr>
        <p:spPr>
          <a:xfrm>
            <a:off x="7037280" y="7520040"/>
            <a:ext cx="1333440" cy="1747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Rectangle 25"/>
          <p:cNvSpPr/>
          <p:nvPr/>
        </p:nvSpPr>
        <p:spPr>
          <a:xfrm>
            <a:off x="7037280" y="8093160"/>
            <a:ext cx="13334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Rectangle 26"/>
          <p:cNvSpPr/>
          <p:nvPr/>
        </p:nvSpPr>
        <p:spPr>
          <a:xfrm>
            <a:off x="8359920" y="7520040"/>
            <a:ext cx="3300120" cy="17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Rectangle 27"/>
          <p:cNvSpPr/>
          <p:nvPr/>
        </p:nvSpPr>
        <p:spPr>
          <a:xfrm>
            <a:off x="8359920" y="7535880"/>
            <a:ext cx="3292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ndardization of a quer y langu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(SPARQL, 6. April 2006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Ongoing work on rule languag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(SWRL, DL-safe rules, RIF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Extension of OWL to OWL 1.1 / 2.0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Ontology language of OMG based on UML (ODM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Rectangle 28"/>
          <p:cNvSpPr/>
          <p:nvPr/>
        </p:nvSpPr>
        <p:spPr>
          <a:xfrm>
            <a:off x="1339920" y="3195720"/>
            <a:ext cx="4622760" cy="3888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9"/>
          <p:cNvSpPr/>
          <p:nvPr/>
        </p:nvSpPr>
        <p:spPr>
          <a:xfrm>
            <a:off x="1338120" y="3211560"/>
            <a:ext cx="4626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30"/>
          <p:cNvSpPr/>
          <p:nvPr/>
        </p:nvSpPr>
        <p:spPr>
          <a:xfrm>
            <a:off x="1339920" y="3562200"/>
            <a:ext cx="4632120" cy="5716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AutoShape 31"/>
          <p:cNvSpPr/>
          <p:nvPr/>
        </p:nvSpPr>
        <p:spPr>
          <a:xfrm>
            <a:off x="6407280" y="3606840"/>
            <a:ext cx="266400" cy="5667480"/>
          </a:xfrm>
          <a:prstGeom prst="rightArrow">
            <a:avLst>
              <a:gd name="adj1" fmla="val 74278"/>
              <a:gd name="adj2" fmla="val 81000"/>
            </a:avLst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1" name="Picture 32" descr=""/>
          <p:cNvPicPr/>
          <p:nvPr/>
        </p:nvPicPr>
        <p:blipFill>
          <a:blip r:embed="rId1"/>
          <a:stretch/>
        </p:blipFill>
        <p:spPr>
          <a:xfrm>
            <a:off x="1525680" y="3792600"/>
            <a:ext cx="4279680" cy="44305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33"/>
          <p:cNvSpPr/>
          <p:nvPr/>
        </p:nvSpPr>
        <p:spPr>
          <a:xfrm>
            <a:off x="1636560" y="5665680"/>
            <a:ext cx="3254400" cy="290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Rectangle 34"/>
          <p:cNvSpPr/>
          <p:nvPr/>
        </p:nvSpPr>
        <p:spPr>
          <a:xfrm>
            <a:off x="2500200" y="8199360"/>
            <a:ext cx="1766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Rectangle 35"/>
          <p:cNvSpPr/>
          <p:nvPr/>
        </p:nvSpPr>
        <p:spPr>
          <a:xfrm>
            <a:off x="1636560" y="4387680"/>
            <a:ext cx="411660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Rectangle 36"/>
          <p:cNvSpPr/>
          <p:nvPr/>
        </p:nvSpPr>
        <p:spPr>
          <a:xfrm>
            <a:off x="2143080" y="443232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6" name="Picture 37" descr=""/>
          <p:cNvPicPr/>
          <p:nvPr/>
        </p:nvPicPr>
        <p:blipFill>
          <a:blip r:embed="rId2"/>
          <a:stretch/>
        </p:blipFill>
        <p:spPr>
          <a:xfrm>
            <a:off x="4964040" y="2184480"/>
            <a:ext cx="3060720" cy="55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2AC9-F10F-47BA-AA11-2280EAFAE33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Web - Standard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4964040" y="2184480"/>
            <a:ext cx="3060720" cy="55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0" name=""/>
          <p:cNvGraphicFramePr/>
          <p:nvPr/>
        </p:nvGraphicFramePr>
        <p:xfrm>
          <a:off x="6502320" y="2933640"/>
          <a:ext cx="6096240" cy="66675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– Grundlag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–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–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– Syntax und Intuitio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–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– Anwendung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1" name="Rectangle 61"/>
          <p:cNvSpPr/>
          <p:nvPr/>
        </p:nvSpPr>
        <p:spPr>
          <a:xfrm>
            <a:off x="1339920" y="3195720"/>
            <a:ext cx="4622760" cy="3888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Rectangle 62"/>
          <p:cNvSpPr/>
          <p:nvPr/>
        </p:nvSpPr>
        <p:spPr>
          <a:xfrm>
            <a:off x="1338120" y="3211560"/>
            <a:ext cx="4626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Rectangle 63"/>
          <p:cNvSpPr/>
          <p:nvPr/>
        </p:nvSpPr>
        <p:spPr>
          <a:xfrm>
            <a:off x="1339920" y="3562200"/>
            <a:ext cx="4632120" cy="5716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4" name="Picture 64" descr=""/>
          <p:cNvPicPr/>
          <p:nvPr/>
        </p:nvPicPr>
        <p:blipFill>
          <a:blip r:embed="rId2"/>
          <a:stretch/>
        </p:blipFill>
        <p:spPr>
          <a:xfrm>
            <a:off x="1525680" y="3792600"/>
            <a:ext cx="4279680" cy="443052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65"/>
          <p:cNvSpPr/>
          <p:nvPr/>
        </p:nvSpPr>
        <p:spPr>
          <a:xfrm>
            <a:off x="1636560" y="5665680"/>
            <a:ext cx="3254400" cy="290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66"/>
          <p:cNvSpPr/>
          <p:nvPr/>
        </p:nvSpPr>
        <p:spPr>
          <a:xfrm>
            <a:off x="2500200" y="8199360"/>
            <a:ext cx="1766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Rectangle 67"/>
          <p:cNvSpPr/>
          <p:nvPr/>
        </p:nvSpPr>
        <p:spPr>
          <a:xfrm>
            <a:off x="1636560" y="4387680"/>
            <a:ext cx="411660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68"/>
          <p:cNvSpPr/>
          <p:nvPr/>
        </p:nvSpPr>
        <p:spPr>
          <a:xfrm>
            <a:off x="2143080" y="443232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008C-258C-47B8-9156-170EE6339CD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liennummernplatzhalter 1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5C20-27D0-451E-BF91-C5CE088D048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3" name="Gruppieren 37" descr=""/>
          <p:cNvPicPr/>
          <p:nvPr/>
        </p:nvPicPr>
        <p:blipFill>
          <a:blip r:embed="rId1"/>
          <a:stretch/>
        </p:blipFill>
        <p:spPr>
          <a:xfrm>
            <a:off x="1249200" y="4754520"/>
            <a:ext cx="10893600" cy="438948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16"/>
          <p:cNvSpPr/>
          <p:nvPr/>
        </p:nvSpPr>
        <p:spPr>
          <a:xfrm>
            <a:off x="1589040" y="7016400"/>
            <a:ext cx="5283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Knowledge Managemen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Logical Foundations &amp; Reasoning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rvice Engineering &amp; Managemen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chine Learning &amp; Text Mining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Rectangle 17"/>
          <p:cNvSpPr/>
          <p:nvPr/>
        </p:nvSpPr>
        <p:spPr>
          <a:xfrm>
            <a:off x="6973920" y="7024320"/>
            <a:ext cx="4775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mantic Web Infrastructure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mantic Search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ocial Software&amp; Web 2.0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Governmen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6" name="Gruppieren 20"/>
          <p:cNvGrpSpPr/>
          <p:nvPr/>
        </p:nvGrpSpPr>
        <p:grpSpPr>
          <a:xfrm>
            <a:off x="1284120" y="3673440"/>
            <a:ext cx="10769760" cy="1828800"/>
            <a:chOff x="1284120" y="3673440"/>
            <a:chExt cx="10769760" cy="1828800"/>
          </a:xfrm>
        </p:grpSpPr>
        <p:sp>
          <p:nvSpPr>
            <p:cNvPr id="567" name="AutoShape 35"/>
            <p:cNvSpPr/>
            <p:nvPr/>
          </p:nvSpPr>
          <p:spPr>
            <a:xfrm>
              <a:off x="1284120" y="3891240"/>
              <a:ext cx="10769760" cy="1611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8" name="AutoShape 36"/>
            <p:cNvSpPr/>
            <p:nvPr/>
          </p:nvSpPr>
          <p:spPr>
            <a:xfrm>
              <a:off x="1284120" y="3673440"/>
              <a:ext cx="10769760" cy="1609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69" name="Rectangle 39"/>
          <p:cNvSpPr/>
          <p:nvPr/>
        </p:nvSpPr>
        <p:spPr>
          <a:xfrm>
            <a:off x="4908240" y="5322960"/>
            <a:ext cx="343764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102240" bIns="102240" anchor="ctr">
            <a:spAutoFit/>
          </a:bodyPr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pplied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echnology Transf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usiness Scenario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8696160" y="5337000"/>
            <a:ext cx="362664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102240" bIns="102240" anchor="ctr">
            <a:spAutoFit/>
          </a:bodyPr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pplied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roduct Developmen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71" name="Object 43"/>
          <p:cNvGraphicFramePr/>
          <p:nvPr/>
        </p:nvGraphicFramePr>
        <p:xfrm>
          <a:off x="9480600" y="3165480"/>
          <a:ext cx="2587680" cy="73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2" name="Object 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80600" y="3165480"/>
                    <a:ext cx="258768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Rectangle 45"/>
          <p:cNvSpPr/>
          <p:nvPr/>
        </p:nvSpPr>
        <p:spPr>
          <a:xfrm>
            <a:off x="1204920" y="5337000"/>
            <a:ext cx="333072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102240" bIns="102240" anchor="t">
            <a:spAutoFit/>
          </a:bodyPr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asic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pplied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4" name="Grafik 35" descr="FZI-Logo.png"/>
          <p:cNvPicPr/>
          <p:nvPr/>
        </p:nvPicPr>
        <p:blipFill>
          <a:blip r:embed="rId4"/>
          <a:stretch/>
        </p:blipFill>
        <p:spPr>
          <a:xfrm>
            <a:off x="6262560" y="2482920"/>
            <a:ext cx="812880" cy="1392120"/>
          </a:xfrm>
          <a:prstGeom prst="rect">
            <a:avLst/>
          </a:prstGeom>
          <a:ln w="0">
            <a:noFill/>
          </a:ln>
        </p:spPr>
      </p:pic>
      <p:pic>
        <p:nvPicPr>
          <p:cNvPr id="575" name="Grafik 22" descr="KITLogo_CMYK.png"/>
          <p:cNvPicPr/>
          <p:nvPr/>
        </p:nvPicPr>
        <p:blipFill>
          <a:blip r:embed="rId5"/>
          <a:stretch/>
        </p:blipFill>
        <p:spPr>
          <a:xfrm>
            <a:off x="1893960" y="2716200"/>
            <a:ext cx="1987560" cy="9237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"/>
          <p:cNvPicPr/>
          <p:nvPr/>
        </p:nvPicPr>
        <p:blipFill>
          <a:blip r:embed="rId6"/>
          <a:stretch/>
        </p:blipFill>
        <p:spPr>
          <a:xfrm>
            <a:off x="2830680" y="3652920"/>
            <a:ext cx="1549080" cy="657000"/>
          </a:xfrm>
          <a:prstGeom prst="rect">
            <a:avLst/>
          </a:prstGeom>
          <a:ln w="0">
            <a:noFill/>
          </a:ln>
        </p:spPr>
      </p:pic>
      <p:pic>
        <p:nvPicPr>
          <p:cNvPr id="577" name="Grafik 34" descr="AIFB-Logo.png"/>
          <p:cNvPicPr/>
          <p:nvPr/>
        </p:nvPicPr>
        <p:blipFill>
          <a:blip r:embed="rId7"/>
          <a:stretch/>
        </p:blipFill>
        <p:spPr>
          <a:xfrm>
            <a:off x="1389240" y="3797280"/>
            <a:ext cx="1422360" cy="417600"/>
          </a:xfrm>
          <a:prstGeom prst="rect">
            <a:avLst/>
          </a:prstGeom>
          <a:ln w="0">
            <a:noFill/>
          </a:ln>
        </p:spPr>
      </p:pic>
      <p:sp>
        <p:nvSpPr>
          <p:cNvPr id="578" name="Titel 6"/>
          <p:cNvSpPr/>
          <p:nvPr/>
        </p:nvSpPr>
        <p:spPr>
          <a:xfrm>
            <a:off x="1538280" y="241200"/>
            <a:ext cx="1108548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Semantic Karlsruh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liennummernplatzhalter 1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7AF8-1040-4D23-A4C1-BF660EE8CB4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37920" y="240840"/>
            <a:ext cx="11085480" cy="15382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Semantic Karlsruh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1" name="Oval 4"/>
          <p:cNvSpPr/>
          <p:nvPr/>
        </p:nvSpPr>
        <p:spPr>
          <a:xfrm>
            <a:off x="4172040" y="2459160"/>
            <a:ext cx="8501040" cy="6184800"/>
          </a:xfrm>
          <a:prstGeom prst="ellipse">
            <a:avLst/>
          </a:prstGeom>
          <a:noFill/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Oval 5"/>
          <p:cNvSpPr/>
          <p:nvPr/>
        </p:nvSpPr>
        <p:spPr>
          <a:xfrm>
            <a:off x="380880" y="2395440"/>
            <a:ext cx="9010800" cy="6248520"/>
          </a:xfrm>
          <a:prstGeom prst="ellipse">
            <a:avLst/>
          </a:prstGeom>
          <a:noFill/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11138040" y="2174760"/>
            <a:ext cx="15350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240" rIns="120240" tIns="60120" bIns="60120" anchor="t">
            <a:spAutoFit/>
          </a:bodyPr>
          <a:p>
            <a:pPr algn="ctr">
              <a:lnSpc>
                <a:spcPct val="100000"/>
              </a:lnSpc>
              <a:spcBef>
                <a:spcPts val="2911"/>
              </a:spcBef>
              <a:tabLst>
                <a:tab algn="l" pos="0"/>
                <a:tab algn="l" pos="1193760"/>
                <a:tab algn="l" pos="2389320"/>
                <a:tab algn="l" pos="3583080"/>
                <a:tab algn="l" pos="4776840"/>
                <a:tab algn="l" pos="5972040"/>
                <a:tab algn="l" pos="7165800"/>
                <a:tab algn="l" pos="8359920"/>
                <a:tab algn="l" pos="9555120"/>
                <a:tab algn="l" pos="10752120"/>
                <a:tab algn="l" pos="11945880"/>
                <a:tab algn="l" pos="13139640"/>
              </a:tabLst>
            </a:pPr>
            <a:r>
              <a:rPr b="0" lang="en-GB" sz="4700" spc="-1" strike="noStrike">
                <a:solidFill>
                  <a:srgbClr val="ffffff"/>
                </a:solidFill>
                <a:latin typeface="Calibri"/>
                <a:ea typeface="Arial"/>
              </a:rPr>
              <a:t>FZI</a:t>
            </a:r>
            <a:endParaRPr b="0" lang="en-US" sz="4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84120" y="2174760"/>
            <a:ext cx="19731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240" rIns="120240" tIns="60120" bIns="60120" anchor="t">
            <a:spAutoFit/>
          </a:bodyPr>
          <a:p>
            <a:pPr algn="ctr">
              <a:lnSpc>
                <a:spcPct val="100000"/>
              </a:lnSpc>
              <a:spcBef>
                <a:spcPts val="2911"/>
              </a:spcBef>
              <a:tabLst>
                <a:tab algn="l" pos="0"/>
                <a:tab algn="l" pos="1193760"/>
                <a:tab algn="l" pos="2389320"/>
                <a:tab algn="l" pos="3583080"/>
                <a:tab algn="l" pos="4776840"/>
                <a:tab algn="l" pos="5972040"/>
                <a:tab algn="l" pos="7165800"/>
                <a:tab algn="l" pos="8359920"/>
                <a:tab algn="l" pos="9555120"/>
                <a:tab algn="l" pos="10752120"/>
                <a:tab algn="l" pos="11945880"/>
                <a:tab algn="l" pos="13139640"/>
              </a:tabLst>
            </a:pPr>
            <a:r>
              <a:rPr b="0" lang="en-GB" sz="4700" spc="-1" strike="noStrike">
                <a:solidFill>
                  <a:srgbClr val="ffffff"/>
                </a:solidFill>
                <a:latin typeface="Calibri"/>
                <a:ea typeface="Arial"/>
              </a:rPr>
              <a:t>AIFB</a:t>
            </a:r>
            <a:endParaRPr b="0" lang="en-US" sz="4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5808600" y="3154320"/>
            <a:ext cx="208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Calibri"/>
                <a:ea typeface="Arial"/>
              </a:rPr>
              <a:t>Rudi Stud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7140600" y="8340840"/>
            <a:ext cx="2330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Valentin Zachari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8062920" y="7624800"/>
            <a:ext cx="225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x Völk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Text Box 11"/>
          <p:cNvSpPr/>
          <p:nvPr/>
        </p:nvSpPr>
        <p:spPr>
          <a:xfrm>
            <a:off x="9802800" y="6697800"/>
            <a:ext cx="26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Nenad Stojanov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Text Box 13"/>
          <p:cNvSpPr/>
          <p:nvPr/>
        </p:nvSpPr>
        <p:spPr>
          <a:xfrm>
            <a:off x="7448400" y="260676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Andreas Abeck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9188280" y="6288120"/>
            <a:ext cx="2254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Ljiljana Stojanov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Text Box 15"/>
          <p:cNvSpPr/>
          <p:nvPr/>
        </p:nvSpPr>
        <p:spPr>
          <a:xfrm>
            <a:off x="2124000" y="7318440"/>
            <a:ext cx="2084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ohanna Völk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Text Box 16"/>
          <p:cNvSpPr/>
          <p:nvPr/>
        </p:nvSpPr>
        <p:spPr>
          <a:xfrm>
            <a:off x="2017800" y="2908440"/>
            <a:ext cx="317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tephan Bloehdor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Text Box 17"/>
          <p:cNvSpPr/>
          <p:nvPr/>
        </p:nvSpPr>
        <p:spPr>
          <a:xfrm>
            <a:off x="3871800" y="2500200"/>
            <a:ext cx="224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udhir Agarw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690480" y="3828960"/>
            <a:ext cx="2903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hilipp Cimian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11014200" y="5572080"/>
            <a:ext cx="165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rk Hefk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Text Box 21"/>
          <p:cNvSpPr/>
          <p:nvPr/>
        </p:nvSpPr>
        <p:spPr>
          <a:xfrm>
            <a:off x="9293400" y="4552920"/>
            <a:ext cx="198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tephan Grim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Text Box 22"/>
          <p:cNvSpPr/>
          <p:nvPr/>
        </p:nvSpPr>
        <p:spPr>
          <a:xfrm>
            <a:off x="2533680" y="4137120"/>
            <a:ext cx="257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eter Haa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Text Box 23"/>
          <p:cNvSpPr/>
          <p:nvPr/>
        </p:nvSpPr>
        <p:spPr>
          <a:xfrm>
            <a:off x="1711440" y="5264280"/>
            <a:ext cx="266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teffen Lampart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Text Box 24"/>
          <p:cNvSpPr/>
          <p:nvPr/>
        </p:nvSpPr>
        <p:spPr>
          <a:xfrm>
            <a:off x="369720" y="4341960"/>
            <a:ext cx="257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Uta Helling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Text Box 25"/>
          <p:cNvSpPr/>
          <p:nvPr/>
        </p:nvSpPr>
        <p:spPr>
          <a:xfrm>
            <a:off x="2225520" y="4753080"/>
            <a:ext cx="2355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ascal Hitzl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Text Box 26"/>
          <p:cNvSpPr/>
          <p:nvPr/>
        </p:nvSpPr>
        <p:spPr>
          <a:xfrm>
            <a:off x="4172040" y="8202600"/>
            <a:ext cx="194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Denny Vrandec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Text Box 28"/>
          <p:cNvSpPr/>
          <p:nvPr/>
        </p:nvSpPr>
        <p:spPr>
          <a:xfrm>
            <a:off x="587520" y="4854600"/>
            <a:ext cx="194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rkus Krötzsc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Text Box 30"/>
          <p:cNvSpPr/>
          <p:nvPr/>
        </p:nvSpPr>
        <p:spPr>
          <a:xfrm>
            <a:off x="9293400" y="5270400"/>
            <a:ext cx="2330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Hans-Jörg Happ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Text Box 31"/>
          <p:cNvSpPr/>
          <p:nvPr/>
        </p:nvSpPr>
        <p:spPr>
          <a:xfrm>
            <a:off x="11093400" y="4753080"/>
            <a:ext cx="15224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Heiko Hall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Text Box 32"/>
          <p:cNvSpPr/>
          <p:nvPr/>
        </p:nvSpPr>
        <p:spPr>
          <a:xfrm>
            <a:off x="656640" y="5572080"/>
            <a:ext cx="16794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Holger Lewe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Text Box 33"/>
          <p:cNvSpPr/>
          <p:nvPr/>
        </p:nvSpPr>
        <p:spPr>
          <a:xfrm>
            <a:off x="1305000" y="3294000"/>
            <a:ext cx="2662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Sebastian Bloh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Text Box 34"/>
          <p:cNvSpPr/>
          <p:nvPr/>
        </p:nvSpPr>
        <p:spPr>
          <a:xfrm>
            <a:off x="3031200" y="7823160"/>
            <a:ext cx="1497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Yimin Wa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Text Box 35"/>
          <p:cNvSpPr/>
          <p:nvPr/>
        </p:nvSpPr>
        <p:spPr>
          <a:xfrm>
            <a:off x="2239920" y="6697800"/>
            <a:ext cx="26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hilipp Sor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4003560" y="4035600"/>
            <a:ext cx="5697360" cy="3329280"/>
            <a:chOff x="4003560" y="4035600"/>
            <a:chExt cx="5697360" cy="3329280"/>
          </a:xfrm>
        </p:grpSpPr>
        <p:sp>
          <p:nvSpPr>
            <p:cNvPr id="610" name="AutoShape 37"/>
            <p:cNvSpPr/>
            <p:nvPr/>
          </p:nvSpPr>
          <p:spPr>
            <a:xfrm>
              <a:off x="4003560" y="4035600"/>
              <a:ext cx="5697360" cy="397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1" name="Text Box 38"/>
            <p:cNvSpPr/>
            <p:nvPr/>
          </p:nvSpPr>
          <p:spPr>
            <a:xfrm>
              <a:off x="4003560" y="4035600"/>
              <a:ext cx="5697360" cy="33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Knowledge Managem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mantic Web Application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lectronic Marke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Governm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mantic Web Infrastructur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Ontology Managem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ata/Text/Web Mining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eer-to-Pee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mantic Web Service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12" name="Text Box 39"/>
          <p:cNvSpPr/>
          <p:nvPr/>
        </p:nvSpPr>
        <p:spPr>
          <a:xfrm>
            <a:off x="10112400" y="4137120"/>
            <a:ext cx="1887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imone Brau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Text Box 40"/>
          <p:cNvSpPr/>
          <p:nvPr/>
        </p:nvSpPr>
        <p:spPr>
          <a:xfrm>
            <a:off x="8557560" y="8618400"/>
            <a:ext cx="41256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  <a:ea typeface="Arial"/>
              </a:rPr>
              <a:t>+  ca. 40 people at Ontoprise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Text Box 41"/>
          <p:cNvSpPr/>
          <p:nvPr/>
        </p:nvSpPr>
        <p:spPr>
          <a:xfrm>
            <a:off x="871200" y="6249960"/>
            <a:ext cx="21823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Sebastian Rudolp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Text Box 43"/>
          <p:cNvSpPr/>
          <p:nvPr/>
        </p:nvSpPr>
        <p:spPr>
          <a:xfrm>
            <a:off x="893880" y="7010280"/>
            <a:ext cx="266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Duc Thanh Tra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Text Box 44"/>
          <p:cNvSpPr/>
          <p:nvPr/>
        </p:nvSpPr>
        <p:spPr>
          <a:xfrm>
            <a:off x="9293040" y="7210440"/>
            <a:ext cx="2539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Tuvshintur Tserendorj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Text Box 45"/>
          <p:cNvSpPr/>
          <p:nvPr/>
        </p:nvSpPr>
        <p:spPr>
          <a:xfrm>
            <a:off x="8575560" y="8034480"/>
            <a:ext cx="245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Raphael Volz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Text Box 46"/>
          <p:cNvSpPr/>
          <p:nvPr/>
        </p:nvSpPr>
        <p:spPr>
          <a:xfrm>
            <a:off x="10520280" y="598176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oachim Kleb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Text Box 47"/>
          <p:cNvSpPr/>
          <p:nvPr/>
        </p:nvSpPr>
        <p:spPr>
          <a:xfrm>
            <a:off x="627480" y="8618400"/>
            <a:ext cx="626832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  <a:ea typeface="Arial"/>
              </a:rPr>
              <a:t>+  7 external Ph.D. students at SAP Research 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Text Box 48"/>
          <p:cNvSpPr/>
          <p:nvPr/>
        </p:nvSpPr>
        <p:spPr>
          <a:xfrm>
            <a:off x="8575560" y="3828960"/>
            <a:ext cx="245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ürgen Boc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Text Box 49"/>
          <p:cNvSpPr/>
          <p:nvPr/>
        </p:nvSpPr>
        <p:spPr>
          <a:xfrm>
            <a:off x="8267760" y="6902280"/>
            <a:ext cx="24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inan Se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Text Box 50"/>
          <p:cNvSpPr/>
          <p:nvPr/>
        </p:nvSpPr>
        <p:spPr>
          <a:xfrm>
            <a:off x="9599760" y="3425760"/>
            <a:ext cx="24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Veli Bic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Text Box 52"/>
          <p:cNvSpPr/>
          <p:nvPr/>
        </p:nvSpPr>
        <p:spPr>
          <a:xfrm>
            <a:off x="7039080" y="7927920"/>
            <a:ext cx="24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eter Wolf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Text Box 53"/>
          <p:cNvSpPr/>
          <p:nvPr/>
        </p:nvSpPr>
        <p:spPr>
          <a:xfrm>
            <a:off x="7859880" y="3319560"/>
            <a:ext cx="2457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Tian Bai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Text Box 54"/>
          <p:cNvSpPr/>
          <p:nvPr/>
        </p:nvSpPr>
        <p:spPr>
          <a:xfrm>
            <a:off x="8678880" y="577548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un M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Text Box 55"/>
          <p:cNvSpPr/>
          <p:nvPr/>
        </p:nvSpPr>
        <p:spPr>
          <a:xfrm>
            <a:off x="8780400" y="290844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Darko Anic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Text Box 23"/>
          <p:cNvSpPr/>
          <p:nvPr/>
        </p:nvSpPr>
        <p:spPr>
          <a:xfrm>
            <a:off x="1752480" y="5970600"/>
            <a:ext cx="26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ria Maleshkov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2522520" y="3630600"/>
            <a:ext cx="257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Frank Dengl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Text Box 22"/>
          <p:cNvSpPr/>
          <p:nvPr/>
        </p:nvSpPr>
        <p:spPr>
          <a:xfrm>
            <a:off x="3046320" y="7624800"/>
            <a:ext cx="2570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ebastian Speis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liennummernplatzhalter 1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70BD-F640-42F7-AE52-E7BCF78394C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37920" y="240840"/>
            <a:ext cx="11085480" cy="15382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Bodoni SvtyTwo SC ITC TT-Book"/>
              </a:rPr>
              <a:t>Ausgewählte Partner und Projekte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632" name="Picture 3" descr="deri"/>
          <p:cNvPicPr/>
          <p:nvPr/>
        </p:nvPicPr>
        <p:blipFill>
          <a:blip r:embed="rId1"/>
          <a:stretch/>
        </p:blipFill>
        <p:spPr>
          <a:xfrm>
            <a:off x="11584080" y="3778200"/>
            <a:ext cx="1420560" cy="11905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4" descr="dreba_logo"/>
          <p:cNvPicPr/>
          <p:nvPr/>
        </p:nvPicPr>
        <p:blipFill>
          <a:blip r:embed="rId2"/>
          <a:stretch/>
        </p:blipFill>
        <p:spPr>
          <a:xfrm>
            <a:off x="10736280" y="6013440"/>
            <a:ext cx="2268360" cy="5396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6" descr="small_crest"/>
          <p:cNvPicPr/>
          <p:nvPr/>
        </p:nvPicPr>
        <p:blipFill>
          <a:blip r:embed="rId3"/>
          <a:stretch/>
        </p:blipFill>
        <p:spPr>
          <a:xfrm>
            <a:off x="11955600" y="4591080"/>
            <a:ext cx="1049040" cy="12621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7" descr="logitipo-meta4-blanco"/>
          <p:cNvPicPr/>
          <p:nvPr/>
        </p:nvPicPr>
        <p:blipFill>
          <a:blip r:embed="rId4"/>
          <a:stretch/>
        </p:blipFill>
        <p:spPr>
          <a:xfrm>
            <a:off x="4871880" y="7537320"/>
            <a:ext cx="1224000" cy="3859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9" descr="h-banner"/>
          <p:cNvPicPr/>
          <p:nvPr/>
        </p:nvPicPr>
        <p:blipFill>
          <a:blip r:embed="rId5"/>
          <a:stretch/>
        </p:blipFill>
        <p:spPr>
          <a:xfrm>
            <a:off x="1930320" y="8553600"/>
            <a:ext cx="3251160" cy="599760"/>
          </a:xfrm>
          <a:prstGeom prst="rect">
            <a:avLst/>
          </a:prstGeom>
          <a:ln w="0">
            <a:noFill/>
          </a:ln>
        </p:spPr>
      </p:pic>
      <p:grpSp>
        <p:nvGrpSpPr>
          <p:cNvPr id="637" name="Group 10"/>
          <p:cNvGrpSpPr/>
          <p:nvPr/>
        </p:nvGrpSpPr>
        <p:grpSpPr>
          <a:xfrm>
            <a:off x="2411280" y="6826320"/>
            <a:ext cx="3684240" cy="1587240"/>
            <a:chOff x="2411280" y="6826320"/>
            <a:chExt cx="3684240" cy="1587240"/>
          </a:xfrm>
        </p:grpSpPr>
        <p:pic>
          <p:nvPicPr>
            <p:cNvPr id="638" name="Picture 11" descr="0-griffioenEng"/>
            <p:cNvPicPr/>
            <p:nvPr/>
          </p:nvPicPr>
          <p:blipFill>
            <a:blip r:embed="rId6"/>
            <a:srcRect l="69797" t="0" r="0" b="0"/>
            <a:stretch/>
          </p:blipFill>
          <p:spPr>
            <a:xfrm>
              <a:off x="3436200" y="6826320"/>
              <a:ext cx="1254600" cy="130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12" descr="0-griffioenEng"/>
            <p:cNvPicPr/>
            <p:nvPr/>
          </p:nvPicPr>
          <p:blipFill>
            <a:blip r:embed="rId7"/>
            <a:srcRect l="0" t="80008" r="31632" b="0"/>
            <a:stretch/>
          </p:blipFill>
          <p:spPr>
            <a:xfrm>
              <a:off x="2411280" y="7952760"/>
              <a:ext cx="3684240" cy="460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0" name="Picture 13" descr="banner-left"/>
          <p:cNvPicPr/>
          <p:nvPr/>
        </p:nvPicPr>
        <p:blipFill>
          <a:blip r:embed="rId8"/>
          <a:stretch/>
        </p:blipFill>
        <p:spPr>
          <a:xfrm>
            <a:off x="8840880" y="6013440"/>
            <a:ext cx="1014480" cy="11383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4" descr="hplogo"/>
          <p:cNvPicPr/>
          <p:nvPr/>
        </p:nvPicPr>
        <p:blipFill>
          <a:blip r:embed="rId9"/>
          <a:stretch/>
        </p:blipFill>
        <p:spPr>
          <a:xfrm>
            <a:off x="7647120" y="8147160"/>
            <a:ext cx="1191960" cy="993600"/>
          </a:xfrm>
          <a:prstGeom prst="rect">
            <a:avLst/>
          </a:prstGeom>
          <a:ln w="0">
            <a:noFill/>
          </a:ln>
        </p:spPr>
      </p:pic>
      <p:grpSp>
        <p:nvGrpSpPr>
          <p:cNvPr id="642" name="Group 15"/>
          <p:cNvGrpSpPr/>
          <p:nvPr/>
        </p:nvGrpSpPr>
        <p:grpSpPr>
          <a:xfrm>
            <a:off x="11582280" y="6826320"/>
            <a:ext cx="1117440" cy="1517400"/>
            <a:chOff x="11582280" y="6826320"/>
            <a:chExt cx="1117440" cy="1517400"/>
          </a:xfrm>
        </p:grpSpPr>
        <p:pic>
          <p:nvPicPr>
            <p:cNvPr id="643" name="Picture 16" descr="uni_typo_2"/>
            <p:cNvPicPr/>
            <p:nvPr/>
          </p:nvPicPr>
          <p:blipFill>
            <a:blip r:embed="rId10"/>
            <a:srcRect l="54055" t="0" r="0" b="0"/>
            <a:stretch/>
          </p:blipFill>
          <p:spPr>
            <a:xfrm>
              <a:off x="11582280" y="6826320"/>
              <a:ext cx="111744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17" descr="uni_typo_3"/>
            <p:cNvPicPr/>
            <p:nvPr/>
          </p:nvPicPr>
          <p:blipFill>
            <a:blip r:embed="rId11"/>
            <a:srcRect l="54055" t="0" r="0" b="0"/>
            <a:stretch/>
          </p:blipFill>
          <p:spPr>
            <a:xfrm>
              <a:off x="11582280" y="7570800"/>
              <a:ext cx="1117440" cy="772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5" name="Picture 18" descr="e_tiiv"/>
          <p:cNvPicPr/>
          <p:nvPr/>
        </p:nvPicPr>
        <p:blipFill>
          <a:blip r:embed="rId12"/>
          <a:stretch/>
        </p:blipFill>
        <p:spPr>
          <a:xfrm>
            <a:off x="7518240" y="4083120"/>
            <a:ext cx="2463840" cy="7920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9" descr="w3c"/>
          <p:cNvPicPr/>
          <p:nvPr/>
        </p:nvPicPr>
        <p:blipFill>
          <a:blip r:embed="rId13"/>
          <a:stretch/>
        </p:blipFill>
        <p:spPr>
          <a:xfrm>
            <a:off x="10261440" y="7329600"/>
            <a:ext cx="974880" cy="5126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0" descr="ibm"/>
          <p:cNvPicPr/>
          <p:nvPr/>
        </p:nvPicPr>
        <p:blipFill>
          <a:blip r:embed="rId14"/>
          <a:stretch/>
        </p:blipFill>
        <p:spPr>
          <a:xfrm>
            <a:off x="9956880" y="4184640"/>
            <a:ext cx="1299960" cy="6588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1" descr="logo_ibit1"/>
          <p:cNvPicPr/>
          <p:nvPr/>
        </p:nvPicPr>
        <p:blipFill>
          <a:blip r:embed="rId15"/>
          <a:stretch/>
        </p:blipFill>
        <p:spPr>
          <a:xfrm>
            <a:off x="9651960" y="5200560"/>
            <a:ext cx="1397160" cy="6778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2" descr="logo8-color-small"/>
          <p:cNvPicPr/>
          <p:nvPr/>
        </p:nvPicPr>
        <p:blipFill>
          <a:blip r:embed="rId16"/>
          <a:srcRect l="17391" t="0" r="17391" b="0"/>
          <a:stretch/>
        </p:blipFill>
        <p:spPr>
          <a:xfrm>
            <a:off x="84240" y="3676680"/>
            <a:ext cx="2455920" cy="15145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3" descr="KW_logo"/>
          <p:cNvPicPr/>
          <p:nvPr/>
        </p:nvPicPr>
        <p:blipFill>
          <a:blip r:embed="rId17"/>
          <a:stretch/>
        </p:blipFill>
        <p:spPr>
          <a:xfrm>
            <a:off x="203040" y="7496280"/>
            <a:ext cx="1544760" cy="10573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4" descr="sap_logo"/>
          <p:cNvPicPr/>
          <p:nvPr/>
        </p:nvPicPr>
        <p:blipFill>
          <a:blip r:embed="rId18"/>
          <a:stretch/>
        </p:blipFill>
        <p:spPr>
          <a:xfrm>
            <a:off x="9448920" y="3371760"/>
            <a:ext cx="1187280" cy="60012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5" descr="diplogo"/>
          <p:cNvPicPr/>
          <p:nvPr/>
        </p:nvPicPr>
        <p:blipFill>
          <a:blip r:embed="rId19"/>
          <a:srcRect l="0" t="0" r="0" b="15159"/>
          <a:stretch/>
        </p:blipFill>
        <p:spPr>
          <a:xfrm>
            <a:off x="2514600" y="6014880"/>
            <a:ext cx="1735200" cy="9241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7" descr="neon_print"/>
          <p:cNvPicPr/>
          <p:nvPr/>
        </p:nvPicPr>
        <p:blipFill>
          <a:blip r:embed="rId20"/>
          <a:stretch/>
        </p:blipFill>
        <p:spPr>
          <a:xfrm>
            <a:off x="3429000" y="5318280"/>
            <a:ext cx="1636560" cy="6998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8" descr="SPC"/>
          <p:cNvPicPr/>
          <p:nvPr/>
        </p:nvPicPr>
        <p:blipFill>
          <a:blip r:embed="rId21"/>
          <a:stretch/>
        </p:blipFill>
        <p:spPr>
          <a:xfrm>
            <a:off x="4908600" y="3062160"/>
            <a:ext cx="108000" cy="4334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9" descr="SPC"/>
          <p:cNvPicPr/>
          <p:nvPr/>
        </p:nvPicPr>
        <p:blipFill>
          <a:blip r:embed="rId22"/>
          <a:stretch/>
        </p:blipFill>
        <p:spPr>
          <a:xfrm>
            <a:off x="3811680" y="3821040"/>
            <a:ext cx="108000" cy="43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0" descr="x-media-logo"/>
          <p:cNvPicPr/>
          <p:nvPr/>
        </p:nvPicPr>
        <p:blipFill>
          <a:blip r:embed="rId23"/>
          <a:stretch/>
        </p:blipFill>
        <p:spPr>
          <a:xfrm>
            <a:off x="357120" y="6410160"/>
            <a:ext cx="2252880" cy="5288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31" descr="SESAM-Logo-CMYK_1-klein"/>
          <p:cNvPicPr/>
          <p:nvPr/>
        </p:nvPicPr>
        <p:blipFill>
          <a:blip r:embed="rId24"/>
          <a:stretch/>
        </p:blipFill>
        <p:spPr>
          <a:xfrm>
            <a:off x="1380960" y="6939000"/>
            <a:ext cx="1640160" cy="7970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32" descr="SW-logo_redblue2_640"/>
          <p:cNvPicPr/>
          <p:nvPr/>
        </p:nvPicPr>
        <p:blipFill>
          <a:blip r:embed="rId25"/>
          <a:stretch/>
        </p:blipFill>
        <p:spPr>
          <a:xfrm>
            <a:off x="5630760" y="3270240"/>
            <a:ext cx="2305080" cy="5018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3" descr=""/>
          <p:cNvPicPr/>
          <p:nvPr/>
        </p:nvPicPr>
        <p:blipFill>
          <a:blip r:embed="rId26"/>
          <a:stretch/>
        </p:blipFill>
        <p:spPr>
          <a:xfrm>
            <a:off x="5375160" y="3979800"/>
            <a:ext cx="1228680" cy="808200"/>
          </a:xfrm>
          <a:prstGeom prst="rect">
            <a:avLst/>
          </a:prstGeom>
          <a:ln w="0">
            <a:noFill/>
          </a:ln>
        </p:spPr>
      </p:pic>
      <p:sp>
        <p:nvSpPr>
          <p:cNvPr id="660" name="Line 39"/>
          <p:cNvSpPr/>
          <p:nvPr/>
        </p:nvSpPr>
        <p:spPr>
          <a:xfrm flipV="1">
            <a:off x="812880" y="2152440"/>
            <a:ext cx="9144000" cy="711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1" name="Picture 40" descr="nepomuk"/>
          <p:cNvPicPr/>
          <p:nvPr/>
        </p:nvPicPr>
        <p:blipFill>
          <a:blip r:embed="rId27"/>
          <a:stretch/>
        </p:blipFill>
        <p:spPr>
          <a:xfrm>
            <a:off x="2201760" y="4613400"/>
            <a:ext cx="2048040" cy="9936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1" descr="wiman-logo"/>
          <p:cNvPicPr/>
          <p:nvPr/>
        </p:nvPicPr>
        <p:blipFill>
          <a:blip r:embed="rId28"/>
          <a:stretch/>
        </p:blipFill>
        <p:spPr>
          <a:xfrm>
            <a:off x="3759120" y="3740040"/>
            <a:ext cx="1362240" cy="11559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3" descr="project_halo_logo"/>
          <p:cNvPicPr/>
          <p:nvPr/>
        </p:nvPicPr>
        <p:blipFill>
          <a:blip r:embed="rId29"/>
          <a:stretch/>
        </p:blipFill>
        <p:spPr>
          <a:xfrm>
            <a:off x="460440" y="5097600"/>
            <a:ext cx="1741320" cy="10173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4" descr="SemanticMediaWiki_200"/>
          <p:cNvPicPr/>
          <p:nvPr/>
        </p:nvPicPr>
        <p:blipFill>
          <a:blip r:embed="rId30"/>
          <a:stretch/>
        </p:blipFill>
        <p:spPr>
          <a:xfrm>
            <a:off x="174600" y="2484360"/>
            <a:ext cx="1247760" cy="129384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45"/>
          <p:cNvSpPr/>
          <p:nvPr/>
        </p:nvSpPr>
        <p:spPr>
          <a:xfrm>
            <a:off x="1117440" y="3328920"/>
            <a:ext cx="24861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1700" spc="-1" strike="noStrike">
                <a:solidFill>
                  <a:srgbClr val="7f7f7f"/>
                </a:solidFill>
                <a:latin typeface="Arial Rounded MT Bold"/>
                <a:ea typeface="ヒラギノ角ゴ Pro W3"/>
              </a:rPr>
              <a:t>Semantic MediaWiki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6" name="Picture 51" descr="kcms_img"/>
          <p:cNvPicPr/>
          <p:nvPr/>
        </p:nvPicPr>
        <p:blipFill>
          <a:blip r:embed="rId31"/>
          <a:stretch/>
        </p:blipFill>
        <p:spPr>
          <a:xfrm>
            <a:off x="6635880" y="2378160"/>
            <a:ext cx="2220840" cy="6890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5" descr=""/>
          <p:cNvPicPr/>
          <p:nvPr/>
        </p:nvPicPr>
        <p:blipFill>
          <a:blip r:embed="rId32"/>
          <a:stretch/>
        </p:blipFill>
        <p:spPr>
          <a:xfrm>
            <a:off x="10871280" y="2558880"/>
            <a:ext cx="1914480" cy="8128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0" descr=""/>
          <p:cNvPicPr/>
          <p:nvPr/>
        </p:nvPicPr>
        <p:blipFill>
          <a:blip r:embed="rId33"/>
          <a:stretch/>
        </p:blipFill>
        <p:spPr>
          <a:xfrm>
            <a:off x="1512720" y="2355840"/>
            <a:ext cx="2043360" cy="91440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52" descr=""/>
          <p:cNvPicPr/>
          <p:nvPr/>
        </p:nvPicPr>
        <p:blipFill>
          <a:blip r:embed="rId34"/>
          <a:stretch/>
        </p:blipFill>
        <p:spPr>
          <a:xfrm>
            <a:off x="3657600" y="2558880"/>
            <a:ext cx="1544760" cy="10972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49" descr=""/>
          <p:cNvPicPr/>
          <p:nvPr/>
        </p:nvPicPr>
        <p:blipFill>
          <a:blip r:embed="rId35"/>
          <a:stretch/>
        </p:blipFill>
        <p:spPr>
          <a:xfrm>
            <a:off x="5068800" y="2468520"/>
            <a:ext cx="1433520" cy="700200"/>
          </a:xfrm>
          <a:prstGeom prst="rect">
            <a:avLst/>
          </a:prstGeom>
          <a:ln w="0">
            <a:noFill/>
          </a:ln>
        </p:spPr>
      </p:pic>
      <p:pic>
        <p:nvPicPr>
          <p:cNvPr id="671" name="Grafik 50" descr="header_daimler.gif"/>
          <p:cNvPicPr/>
          <p:nvPr/>
        </p:nvPicPr>
        <p:blipFill>
          <a:blip r:embed="rId36"/>
          <a:srcRect l="0" t="0" r="75297" b="0"/>
          <a:stretch/>
        </p:blipFill>
        <p:spPr>
          <a:xfrm>
            <a:off x="8839080" y="8147160"/>
            <a:ext cx="2641680" cy="931680"/>
          </a:xfrm>
          <a:prstGeom prst="rect">
            <a:avLst/>
          </a:prstGeom>
          <a:ln w="0">
            <a:noFill/>
          </a:ln>
        </p:spPr>
      </p:pic>
      <p:pic>
        <p:nvPicPr>
          <p:cNvPr id="672" name="Grafik 51" descr="ox_small_cmyk_pos.gif"/>
          <p:cNvPicPr/>
          <p:nvPr/>
        </p:nvPicPr>
        <p:blipFill>
          <a:blip r:embed="rId37"/>
          <a:stretch/>
        </p:blipFill>
        <p:spPr>
          <a:xfrm>
            <a:off x="6299280" y="68263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C:\DATA\scm-misc\aifb-svn\ls3internal\dissemination-materials\logos-partners\CERTH Athens\ITI Logo small.tif"/>
          <p:cNvPicPr/>
          <p:nvPr/>
        </p:nvPicPr>
        <p:blipFill>
          <a:blip r:embed="rId38"/>
          <a:stretch/>
        </p:blipFill>
        <p:spPr>
          <a:xfrm>
            <a:off x="6353280" y="8248680"/>
            <a:ext cx="961920" cy="857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" descr="C:\DATA\scm-misc\aifb-svn\ls3internal\dissemination-materials\logos-partners\UPC Madrid\Logo_UPM_large.jpg"/>
          <p:cNvPicPr/>
          <p:nvPr/>
        </p:nvPicPr>
        <p:blipFill>
          <a:blip r:embed="rId39"/>
          <a:stretch/>
        </p:blipFill>
        <p:spPr>
          <a:xfrm>
            <a:off x="5079960" y="6013440"/>
            <a:ext cx="914400" cy="12128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3" descr="C:\DATA\scm-misc\aifb-svn\ls3internal\dissemination-materials\logos-partners\jsi\JSI-Logo.gif"/>
          <p:cNvPicPr/>
          <p:nvPr/>
        </p:nvPicPr>
        <p:blipFill>
          <a:blip r:embed="rId40"/>
          <a:stretch/>
        </p:blipFill>
        <p:spPr>
          <a:xfrm>
            <a:off x="7721640" y="7334280"/>
            <a:ext cx="2438280" cy="4176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C:\DATA\scm-misc\aifb-svn\ls3internal\dissemination-materials\logos-partners\bt\BT_mark_4col_pos.png"/>
          <p:cNvPicPr/>
          <p:nvPr/>
        </p:nvPicPr>
        <p:blipFill>
          <a:blip r:embed="rId41"/>
          <a:stretch/>
        </p:blipFill>
        <p:spPr>
          <a:xfrm>
            <a:off x="6594480" y="5607000"/>
            <a:ext cx="2143080" cy="10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F422-DF21-4F32-A9F9-C28B077B4FE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Karlsruhe: Lehr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1612800" y="1981080"/>
            <a:ext cx="815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160e"/>
                </a:solidFill>
                <a:latin typeface="Arial"/>
                <a:ea typeface="Arial"/>
              </a:rPr>
              <a:t>Interesse an Lehrveranstaltungen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841040" y="3352320"/>
            <a:ext cx="7696440" cy="582948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t">
            <a:normAutofit/>
          </a:bodyPr>
          <a:p>
            <a:pPr marL="320760" indent="-28116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Helvetica Neue"/>
              </a:rPr>
              <a:t>Wintersemester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Angewandte Informatik I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antic Web Technologies I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inar Wissensmanagement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Knowledge Discovery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3207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Helvetica Neue"/>
              </a:rPr>
              <a:t>Sommersemester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antic Web Technologies II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inar Knowledge Discovery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Wissensmanagement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3207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Lehrangebot gilt für alle Studienrichtungen: Informationswirtschaft, Wirtschaftsingenieurwesen, technische VWL, Wirtschaftsmathematik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3207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Wahlmöglichkeiten entsprechend alter oder neuer Prüfungsordnung (Diplom bzw. Bachelor/Master)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DD7F-642F-4694-ADF4-6CAE0FEEDB5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36480" y="240840"/>
            <a:ext cx="1112508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doni SvtyTwo SC ITC TT-Book"/>
              </a:rPr>
              <a:t>Semantic Karlsruhe: We Want You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3" name="Rectangle 2"/>
          <p:cNvSpPr/>
          <p:nvPr/>
        </p:nvSpPr>
        <p:spPr>
          <a:xfrm>
            <a:off x="2425680" y="2684520"/>
            <a:ext cx="81532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160e"/>
                </a:solidFill>
                <a:latin typeface="Helvetica Neue"/>
              </a:rPr>
              <a:t>Interesse an Mitarbeit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414160" y="3995640"/>
            <a:ext cx="7696440" cy="407664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t">
            <a:normAutofit/>
          </a:bodyPr>
          <a:p>
            <a:pPr marL="320760" indent="-281160"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Mitarbeit an praxisrelevanten internationalen Forschungsprojekten im Rahmen von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HiWi-Tätigkeit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minaren / Praktik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tudien- / Diplomarbeit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2819520" y="6130800"/>
            <a:ext cx="553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http://www.aifb.uni-karlsruhe.de/WB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2514600" y="6856560"/>
          <a:ext cx="7813800" cy="1703160"/>
        </p:xfrm>
        <a:graphic>
          <a:graphicData uri="http://schemas.openxmlformats.org/drawingml/2006/table">
            <a:tbl>
              <a:tblPr/>
              <a:tblGrid>
                <a:gridCol w="3887640"/>
                <a:gridCol w="3926160"/>
              </a:tblGrid>
              <a:tr h="4068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Wissens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emantic Web Infra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emantic Web und Web 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Data/Text Mining, NL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Intelligente WWW-Applikatio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Ontology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usiness Intellig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emantic Web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7B25-2698-4DB6-9EB4-F790BB6038C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stellung der Doze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65530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M.Sc. Markus Krötzsch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ince Mar. 2005: PhD student and research assistant in Prof. Rudi Studer's group at Institute AIFB of Universität Karlsruhe (TH)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Feb. 2005: Master of Science in Computational Logic, degree 1.0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Jun.–Aug. 2004: visit at CWRU Cleveland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3–2005: Study of Computational Logic at the ICCL of 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0–2003: Study of Computer Science at Technische Universität Dresden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7442280" y="5168880"/>
            <a:ext cx="33145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men: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issensrepräsent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mantic Web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mantische Wik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gi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omplexitätstheori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8153280" y="3048120"/>
            <a:ext cx="190512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CBF9-9687-408A-9A48-8A3C1EF497E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stellung der Doze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05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D Dr. Pascal Hitzler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1998 Diplom Mathematik, Tübing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1 Dissertation in Mathematik, Cork, Irland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5 Habilitation in Informatik, TU Dresd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chwerpunkt Künstliche Intelligenz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it Mitte 2004 als Projektleiter am AIFB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men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Wissensverarbeitung, formale Grundlagen bis zur Anwendu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mantic We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Nonmonotonic Reason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Neurosymbolische Integr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Begriffsstruktur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orie der Semantik von Programmiersprach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pascal-hitzler.de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2"/>
          <a:stretch/>
        </p:blipFill>
        <p:spPr>
          <a:xfrm>
            <a:off x="8292960" y="2819520"/>
            <a:ext cx="162720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FBE7-2D48-4186-BDDD-6CB96E8EDEF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stellung der Doze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Dr. Sebastian Rudolph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1995 – 2000 Studium Lehram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Mathematik/Physik/Informatik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0 – 2003 Stipendiat im Graduiertenkolleg 334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U Dresden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3 – 2005 wissenschaftlicher Mitarbeiter an d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rofessur für die Psychologie d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Lehrens und Lernens, 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6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romotion in Mathematik, 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it 2006 als Postdoc am AIFB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7442280" y="5168880"/>
            <a:ext cx="46051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men: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male Aspekte der Wissensverarbeitu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gi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omplexitätstheori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male Begriffsanaly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LP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-Learni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8158320" y="3246480"/>
            <a:ext cx="190476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604F-DD13-42C5-BBC6-20481C93D7C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8B8A-9B51-4699-B00F-8042EFD476D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1585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Zeit und Or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17240" y="1852560"/>
            <a:ext cx="10464840" cy="425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orlesung:  mittwochs, 11:30 - 13:00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Übung:       montags,    11:30 - 13:0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(zweiwöchentlich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rt:             Raum 231, Geb. 11.40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oll die Vorlesung verlegt werden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1"/>
          <a:stretch/>
        </p:blipFill>
        <p:spPr>
          <a:xfrm>
            <a:off x="6654960" y="5799240"/>
            <a:ext cx="5046480" cy="38354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2"/>
          <a:stretch/>
        </p:blipFill>
        <p:spPr>
          <a:xfrm>
            <a:off x="876240" y="5829480"/>
            <a:ext cx="5219640" cy="3684240"/>
          </a:xfrm>
          <a:prstGeom prst="rect">
            <a:avLst/>
          </a:prstGeom>
          <a:ln w="0">
            <a:noFill/>
          </a:ln>
        </p:spPr>
      </p:pic>
      <p:sp>
        <p:nvSpPr>
          <p:cNvPr id="384" name="Oval 5"/>
          <p:cNvSpPr/>
          <p:nvPr/>
        </p:nvSpPr>
        <p:spPr>
          <a:xfrm>
            <a:off x="2870280" y="8636040"/>
            <a:ext cx="482400" cy="53352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Oval 6"/>
          <p:cNvSpPr/>
          <p:nvPr/>
        </p:nvSpPr>
        <p:spPr>
          <a:xfrm>
            <a:off x="6603840" y="8686800"/>
            <a:ext cx="1028880" cy="106668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45C4-8FEB-4627-80C6-29FF2A41E4C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Aktuell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70080" y="2768400"/>
            <a:ext cx="112521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bseite mit aktuellen Infos:</a:t>
            </a:r>
            <a:br>
              <a:rPr sz="42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http://semantic-web-grundlagen.de/wiki/SWebT1_WS08/09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ktuelle Info ist in der Regel nicht im KIT Studierendenportal, sondern auf obiger Webseite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ailingliste: Bitte eintragen wie auf Webseite verzeichnet. Wir gehen davon aus, dass Mails an die Liste alle Teilnehmer erreich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1:45Z</dcterms:created>
  <dc:creator/>
  <dc:description/>
  <cp:keywords/>
  <dc:language>en-US</dc:language>
  <cp:lastModifiedBy>Sebastian Rudolph</cp:lastModifiedBy>
  <dcterms:modified xsi:type="dcterms:W3CDTF">2008-10-21T21:15:23Z</dcterms:modified>
  <cp:revision>49</cp:revision>
  <dc:subject/>
  <dc:title>Semantic Web Technologies I</dc:title>
</cp:coreProperties>
</file>